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2C3-6DA7-438D-B77B-7170B3AE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B9D-BDE3-44FA-9A10-0CD76636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E8D-F7BC-4FB3-B6A6-1FC01586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9D2-E589-453B-A1F3-A0F2CC06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C2E-7A4A-4008-9034-DB85FE9D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B06-3779-47D2-B1C2-9BB2310B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278-A2D2-46D4-A267-2467ADDA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07F-F8E1-4024-B92A-455DA4EB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E0C-41EE-422C-9A6B-A0099780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311-CCEA-4127-97B4-B76E4BA8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19C-7587-4DFF-A9EC-A98C80BB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2B0D-31C1-4EFC-9E45-42CB5E03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7BEC-F262-4BEE-A871-AC402129E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erriam-webster.com/dictionary/commonwealth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orldhistory.abc-clio.com/Search/Display.aspx?categoryid=22&amp;entryid=317484&amp;searchtext=james+i&amp;type=simple&amp;option=al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rldhistory.abc-clio.com/Search/Display.aspx?categoryid=23&amp;entryid=682119&amp;searchtext=house+of+commons&amp;type=simple&amp;option=all&amp;searchsites=5,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ldhistory.abc-clio.com/Search/Display.aspx?categoryid=22&amp;entryid=316961&amp;searchtext=charles+i&amp;type=simple&amp;option=al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itutionalism in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The English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The Commons passed an act compelling the king to summon Parliament every three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It also impeached Archbishop Laud and abolished the House of L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The English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Religious differences in Ireland led to a revolt there, but Parliament would not trust Charles with an ar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The English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les initiated military action against Parlia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The civil war (1642-1649) revolved around the issue of whether sovereignty should reside in the king or in Parlia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The English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The problem was not resolved, but Charles was beheaded in 16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Puritanical absolutism in England: Cromwell and the Protecto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Puritanical absolutism in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the execution of Charles I, kingship was abolished in 1649 and a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mmonwealth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laim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A commonwealth is a government without a king whose poweer rests in Parliament and a council of 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Puritanical absolutism in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n fact, the army controlled the government; it wrote a contitution called the Instrument of Government which gave power to Cro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Puritanical absolutism in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iver Cromwell, leader of the “New Model Army” that defeated the royalists, came from the gentry class that dominated the House of Comm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Puritanical absolutism in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mwell’s Protectorate became a military dictatorship, absolutist and puritan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Cromwell allowed religious toleration for all Christians, except Roman Catholics, and savagely crushed the revolt in Ire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Puritanical absolutism in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He censored the press and closed the thea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He regulated the economy according to mercantilist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is the limitation of the state by law, under constitutionalism, the state must be governed according to law, not royal dec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Puritanical absolutism in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ercantilist navigation act that required English goods to be transported on English ships was a boom to the economy and led to a commercial war with the Du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mplies a balance between the power of government and the right of the su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ations constitution may be written or unwritten, but the government must respect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itutional governments may be either republics or monarch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nstitutional government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s not the same as full democrac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ecause not all of the people have the right to particip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The decline of royal absolut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uart kings of England lacked the political wisdom of Elizabeth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mes I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as devoted to the idea or rule by divine 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absolutism ran counter to English bel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The decline of royal absolut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The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ouse of Common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anted a greater say in the government of the 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increased wealth had produce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etter educated House of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Between 1603 and 1640, bitt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quabbles erupted between th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wn and the Comm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The Protestant, or capitalist, ethic and problem of religion in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The Protesta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English people, called Puritans, were attracted by the values of hard work, thrift, and self-denial implied by Calvi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uritans, who were dissatisfied with the Church of England, saw James I as an ene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les I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nd his archbishop, Laud, appeared to be pro-Catho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The English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les I had ruled without Parliament for eleven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volt in Scotland over the religious issue forced him to call a new Parliament into session to finance an ar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9:04:23Z</dcterms:created>
  <dc:creator>umsd</dc:creator>
  <dc:description/>
  <dc:language>en-US</dc:language>
  <cp:lastModifiedBy>umsd</cp:lastModifiedBy>
  <dcterms:modified xsi:type="dcterms:W3CDTF">2008-12-05T12:58:44Z</dcterms:modified>
  <cp:revision>4</cp:revision>
  <dc:subject/>
  <dc:title>Constitutionalism in England</dc:title>
</cp:coreProperties>
</file>